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A2C-2B58-4996-8AE0-761100765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106-CE66-4585-8FB7-059292290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4F81-11C2-4040-B80E-76B1A47B2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6D8-C9D6-4EDE-A4DE-127847950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11AF-EC57-4E04-82AC-A0EC1C41C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E511-E1C2-4819-82BD-A2FD8FEA8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0DA-8DCF-469D-8216-C59309898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AE9-02A9-49E8-9A15-9C5A6B358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861-9DAA-469D-BFFA-EC96E035A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65E-9E04-4AD7-BE72-C4DE3C9CB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EE79-641F-4F5A-B352-481C90A9B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DAA9-64E1-486B-9BD3-1B9C0AA21B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00D-C3E6-4BCD-9593-320EF77C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33E-A009-43A3-86EF-F0A46559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FB0-9503-4A40-A101-2026A51B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E3B-9C2B-4E32-805D-35301F61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CA5-6026-4D8B-85EE-F940C0D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D21-25A7-4166-A341-45B30C00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E63-F8D6-49FE-8799-C89CBA65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78D-155B-4CAD-B2C3-51D6B824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F14-9D46-4EE7-B4C3-392DA576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3D6-077C-4E78-8348-893B24F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560-DD16-43BB-8551-549822A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B0F-D630-4BF8-A6C9-A678E89C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43D-52A2-4803-8F2E-B54AB3FF5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72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 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7201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служит родине верно, тот долг исполняет пример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на — мать, умей за нее посто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без родины — соловей без пес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за родину дерется, тому сила двойная д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ода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977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родов войск, которые должны обеспечить армию и флот всем необходимым. Это служба тыла, главное военно-медицинское управление, федеральное агентство по специальному строительству и службы расквартирования и обустройства и железнодорожны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469200" y="4005360"/>
            <a:ext cx="1162080" cy="14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8424720" y="6305400"/>
            <a:ext cx="7192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059520" cy="333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116000" y="4797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побед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войс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ухопутные вой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енно-воздушные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оенно-морской фл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23280" y="6305400"/>
            <a:ext cx="72072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опу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ведения боя на суше. Они способны в совокупности с другими видами ВС вести наступление, отражать вторжение противника, наносить огневые удары и удерживать занимаемые территории и руб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1873080" cy="97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цццц"/>
          <p:cNvPicPr/>
          <p:nvPr/>
        </p:nvPicPr>
        <p:blipFill>
          <a:blip r:embed="rId4"/>
          <a:stretch/>
        </p:blipFill>
        <p:spPr>
          <a:xfrm>
            <a:off x="4356000" y="422100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воздуш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6913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разведку, важные военно-экономические объекты и сухопутные войска обороняются от ударов с воздуха, перевозятся ценные грузы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2160360" cy="11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уввва"/>
          <p:cNvPicPr/>
          <p:nvPr/>
        </p:nvPicPr>
        <p:blipFill>
          <a:blip r:embed="rId4"/>
          <a:stretch/>
        </p:blipFill>
        <p:spPr>
          <a:xfrm>
            <a:off x="4427640" y="3933720"/>
            <a:ext cx="242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морской ф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199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интересы нашей страны во время ведения боевых действий на морских и океанических просторах, поддерживает сухопутные войска в операциях на континентальных театрах военных действ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16072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прнеп"/>
          <p:cNvPicPr/>
          <p:nvPr/>
        </p:nvPicPr>
        <p:blipFill>
          <a:blip r:embed="rId4"/>
          <a:stretch/>
        </p:blipFill>
        <p:spPr>
          <a:xfrm>
            <a:off x="3059280" y="3860640"/>
            <a:ext cx="19904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ьоррр"/>
          <p:cNvPicPr/>
          <p:nvPr/>
        </p:nvPicPr>
        <p:blipFill>
          <a:blip r:embed="rId5"/>
          <a:stretch/>
        </p:blipFill>
        <p:spPr>
          <a:xfrm>
            <a:off x="5435640" y="393372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а войс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6275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кет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шно-дес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388360" y="6278400"/>
            <a:ext cx="75564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ке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6826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главным компонентом стратегических ядерных сил России, так как предназначены для поражения групповыми, массированными или одиночными ракетно-ядерными ударами стратегических объектов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158920" cy="1265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8317080" y="6222960"/>
            <a:ext cx="826920" cy="63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шгнн"/>
          <p:cNvPicPr/>
          <p:nvPr/>
        </p:nvPicPr>
        <p:blipFill>
          <a:blip r:embed="rId3"/>
          <a:stretch/>
        </p:blipFill>
        <p:spPr>
          <a:xfrm>
            <a:off x="3276720" y="4076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лор"/>
          <p:cNvPicPr/>
          <p:nvPr/>
        </p:nvPicPr>
        <p:blipFill>
          <a:blip r:embed="rId4"/>
          <a:stretch/>
        </p:blipFill>
        <p:spPr>
          <a:xfrm>
            <a:off x="5435640" y="4005360"/>
            <a:ext cx="2219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675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принципиально новый род войск, имеющих целью обеспечить безопасность РФ в космическ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8388360" y="6276960"/>
            <a:ext cx="755640" cy="58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нек"/>
          <p:cNvPicPr/>
          <p:nvPr/>
        </p:nvPicPr>
        <p:blipFill>
          <a:blip r:embed="rId2"/>
          <a:stretch/>
        </p:blipFill>
        <p:spPr>
          <a:xfrm>
            <a:off x="2843280" y="378936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ыцц"/>
          <p:cNvPicPr/>
          <p:nvPr/>
        </p:nvPicPr>
        <p:blipFill>
          <a:blip r:embed="rId3"/>
          <a:stretch/>
        </p:blipFill>
        <p:spPr>
          <a:xfrm>
            <a:off x="5219640" y="2924280"/>
            <a:ext cx="2352600" cy="142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мпе"/>
          <p:cNvPicPr/>
          <p:nvPr/>
        </p:nvPicPr>
        <p:blipFill>
          <a:blip r:embed="rId4"/>
          <a:stretch/>
        </p:blipFill>
        <p:spPr>
          <a:xfrm>
            <a:off x="684360" y="2924280"/>
            <a:ext cx="2114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шно-десан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6923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од войск вооруженных сил, обладающий высокой мобильностью. Их главная задача — ведение боевых действий в тылу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1368360" cy="135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рррр"/>
          <p:cNvPicPr/>
          <p:nvPr/>
        </p:nvPicPr>
        <p:blipFill>
          <a:blip r:embed="rId3"/>
          <a:stretch/>
        </p:blipFill>
        <p:spPr>
          <a:xfrm>
            <a:off x="2556000" y="3789360"/>
            <a:ext cx="242892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хъъъзщ"/>
          <p:cNvPicPr/>
          <p:nvPr/>
        </p:nvPicPr>
        <p:blipFill>
          <a:blip r:embed="rId4"/>
          <a:stretch/>
        </p:blipFill>
        <p:spPr>
          <a:xfrm>
            <a:off x="5292720" y="3860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18:34Z</dcterms:created>
  <dc:creator>Семова</dc:creator>
  <dc:description/>
  <dc:language>en-US</dc:language>
  <cp:lastModifiedBy>user</cp:lastModifiedBy>
  <dcterms:modified xsi:type="dcterms:W3CDTF">2015-02-17T20:49:05Z</dcterms:modified>
  <cp:revision>29</cp:revision>
  <dc:subject/>
  <dc:title>23 февраля – День защитника Отечества</dc:title>
</cp:coreProperties>
</file>